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165-941B-4813-B0FC-8B6E1F65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DDC-56FD-4773-8A88-6A88B515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280-706F-4422-874C-6A625678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1FE-ED22-4F07-94FC-EAACCD73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347-C374-4960-A2DA-A6A47842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0DB-E082-4E33-91B5-60D233EC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63F-EBDF-4D5F-8B1F-959705D0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D3A-8EDA-4965-B599-27BFBCD8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832-7F40-4EB7-A729-2826453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200-BA87-436C-8DC4-3B8BE8D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840-072E-4C86-9657-0645F2E2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9CF-E00F-4AE8-AF4A-F941E38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16F-5D20-4975-A580-72A8809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897-F012-4543-A4E1-E1EC6F5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3FA-6F3A-4095-80F0-7E574CA8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-19080" y="5102280"/>
            <a:ext cx="64764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5:19:13Z</dcterms:modified>
  <cp:revision>103</cp:revision>
  <dc:subject/>
  <dc:title>Profile</dc:title>
</cp:coreProperties>
</file>